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863-A5F5-4947-B281-6D4D8B22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FAE-C228-4410-B6A1-5C463A40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9FB-8A3A-4D95-B17B-D303CD5B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3D9-8816-4ABC-B704-3727183D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FC9-4061-45A7-8207-07B23FC5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8D9-290A-4C54-8EEE-5FD52A64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548-CB5E-4D0C-ADEE-8730141F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F10-6E76-4FB2-A49C-0901BC5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042-22BB-45BF-95CA-2B183F5A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925-A942-44DE-A10D-78D7CFB0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44F-9910-4408-91D4-8CA335FF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A53-F5EC-4A77-A1EB-75423777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2B95-E1BB-4E30-9C8A-EB074F54E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41148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Monotype Corsiva"/>
              </a:rPr>
              <a:t>La Rutina de Winnie the Pooh y sus ami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19720" y="0"/>
            <a:ext cx="7596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867040" cy="121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2133720"/>
            <a:ext cx="1523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igger se despierta en la manana. El est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á muy cansado. Se despierta a las siete y media. No le gusta desperta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alphaModFix amt="49000"/>
          </a:blip>
          <a:stretch/>
        </p:blipFill>
        <p:spPr>
          <a:xfrm>
            <a:off x="5562720" y="518148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5880" y="609480"/>
            <a:ext cx="228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Winnnie the Pooh se levanta enseguida de sus cama. El se levanta a las ocho. El duerma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124360" cy="2152800"/>
          </a:xfrm>
          <a:prstGeom prst="rect">
            <a:avLst/>
          </a:prstGeom>
          <a:ln w="76320">
            <a:solidFill>
              <a:srgbClr val="ff9999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648320" y="990720"/>
            <a:ext cx="1752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Monotype Corsiva"/>
              </a:rPr>
              <a:t>Winnie The Pooh se desayuna. Le gusta el miel. Es sus comida favorita. El se desayuna a las nu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0"/>
            <a:ext cx="75960" cy="670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90720" y="914400"/>
            <a:ext cx="2076480" cy="2200320"/>
          </a:xfrm>
          <a:prstGeom prst="rect">
            <a:avLst/>
          </a:prstGeom>
          <a:ln w="76320">
            <a:solidFill>
              <a:srgbClr val="ff9999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066680" y="3809880"/>
            <a:ext cx="2210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Monotype Corsiva"/>
              </a:rPr>
              <a:t>Piglet se ba</a:t>
            </a:r>
            <a:r>
              <a:rPr b="1" lang="en-US" sz="2000" spc="-1" strike="noStrike">
                <a:solidFill>
                  <a:srgbClr val="800080"/>
                </a:solidFill>
                <a:latin typeface="Monotype Corsiva"/>
                <a:ea typeface="Arial"/>
              </a:rPr>
              <a:t>ña. La agua está calliente. El se gusta la agua calliente. El baño es relajante. Se lava con una barra de jabón.Se lava el pelo con champ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19720" y="0"/>
            <a:ext cx="75960" cy="701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2666880" cy="1982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77120" y="2209680"/>
            <a:ext cx="1904760" cy="2333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609480"/>
            <a:ext cx="2438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Winnie the Pooh se mira. Se mira s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  <a:ea typeface="Arial"/>
              </a:rPr>
              <a:t>í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mismo.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762120"/>
            <a:ext cx="1523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Tigger se sienta en el suelo. Es c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  <a:ea typeface="Arial"/>
              </a:rPr>
              <a:t>ómodo. Le gusta.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67080" y="0"/>
            <a:ext cx="152640" cy="701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1981080" cy="1950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2523960" cy="215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33720" y="990720"/>
            <a:ext cx="16761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Winnie the Pooh se pone la ropa. Se pone una camiseta rojo. Es la camiseta favor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505320"/>
            <a:ext cx="236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Winnie the Pooh y Piglet se diviertan en el oto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43400" y="0"/>
            <a:ext cx="76320" cy="701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857320" cy="1714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2590560" cy="167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3200400"/>
            <a:ext cx="259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Winnie the Pooh, Piglet, Eeyore, y Tigger se acuestan a la noc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219320"/>
            <a:ext cx="16002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eyore se duerme a la noche. El est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á muy cansado. Se duerme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49:46Z</dcterms:created>
  <dc:creator>zeliffmad</dc:creator>
  <dc:description/>
  <dc:language>en-US</dc:language>
  <cp:lastModifiedBy>zeliffmad</cp:lastModifiedBy>
  <dcterms:modified xsi:type="dcterms:W3CDTF">2012-04-05T15:36:47Z</dcterms:modified>
  <cp:revision>5</cp:revision>
  <dc:subject/>
  <dc:title>Slide 1</dc:title>
</cp:coreProperties>
</file>